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jpeg" ContentType="image/jpeg"/>
  <Override PartName="/ppt/media/image12.png" ContentType="image/pn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17C-7AFE-406E-9BDE-F1E3F1B4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0CDB-0789-4EA6-B7F5-0D440070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7C9-FA1A-4346-8057-34AECCCE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721-1F27-45C4-8536-670F76BB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43430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FFC-C3B6-4BAD-B5CC-262269FA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3556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9988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7160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3556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9988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F881-B3AF-4FE9-ACCE-B90B8262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A88B-0E5B-40CD-9D17-20D3C25E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0892-DB59-4FED-82B8-67067DC9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4CAF-3D1F-4581-99DB-AB8C287A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103C-C317-46F3-897C-3D9E5962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BDE-2455-4322-A7CF-6527E6E8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2120" y="43430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5D84-6480-47FC-B724-5559E89D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3CF2-3466-42D6-805A-03BD3512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3D24-7F3E-46CE-8945-F0349948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0D9F-24C7-4620-AC23-27A9EFE8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A55B-98D5-43FE-BD83-315F5362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F75E-FDF0-45D2-99C3-77A9718B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FDD2-A7A4-4520-8A63-CDC9127D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D1D2-F369-4747-A905-9FB69246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5E8E-9510-4119-8471-7686303C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7E67-9EF0-4935-88F1-622BE449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35C-EE2A-4A92-BB88-9102307B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017C-D8DD-4EAD-AAB3-EA451B25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D8697-E04D-43EC-8579-4F276D59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43430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E902-6661-4272-A57C-6AACB1A2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0FA01-6C5D-4473-BD78-2CB30749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7036-F12D-4E1D-8039-B1034573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C8D46-5DA4-4E73-B200-DE4BC7BB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1EAFF-653C-4D4A-BFF8-160422FF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7D1DA-9397-48FC-8C67-C7BA2406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3556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69988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37160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3556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69988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F9A25-A168-47E3-B3BB-7F6A2B09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204-76AD-4AAE-A722-CEB4F0BF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43430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43430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7F8-A5F7-4BB8-8980-D9631A9D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3556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69988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37160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3556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69988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51A-2D9D-4BD6-A12B-C8CA898E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80C-8033-4B3E-9514-8AEF978F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2CA-2B98-4DB1-9DE9-04C96A87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F2B4-7AC9-4E94-B970-7AF7DFBD82A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55BF-E997-41A1-9F1E-606B7E21B2A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E9C8-B210-43F0-866E-CD3712AC9A4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388584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 Black"/>
              </a:rPr>
              <a:t>Lesson7 My Friend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454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Thank You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介绍李明给我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82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Microsoft JhengHei"/>
              </a:rPr>
              <a:t>This is  Li M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0000"/>
                </a:solidFill>
                <a:uFillTx/>
                <a:latin typeface="Microsoft JhengHei"/>
              </a:rPr>
              <a:t>He's</a:t>
            </a:r>
            <a:r>
              <a:rPr b="1" lang="zh-CN" sz="4800" spc="-1" strike="noStrike">
                <a:solidFill>
                  <a:srgbClr val="000000"/>
                </a:solidFill>
                <a:latin typeface="Microsoft JhengHei"/>
              </a:rPr>
              <a:t>  my 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Microsoft JhengHei"/>
              </a:rPr>
              <a:t>friend</a:t>
            </a:r>
            <a:r>
              <a:rPr b="1" lang="zh-CN" sz="4800" spc="-1" strike="noStrike">
                <a:solidFill>
                  <a:srgbClr val="000000"/>
                </a:solidFill>
                <a:latin typeface="Microsoft JhengHei"/>
              </a:rPr>
              <a:t>.(</a:t>
            </a:r>
            <a:r>
              <a:rPr b="1" lang="zh-CN" sz="4800" spc="-1" strike="noStrike">
                <a:solidFill>
                  <a:srgbClr val="000000"/>
                </a:solidFill>
                <a:latin typeface="Microsoft JhengHei"/>
              </a:rPr>
              <a:t>朋友</a:t>
            </a:r>
            <a:r>
              <a:rPr b="1" lang="zh-CN" sz="4800" spc="-1" strike="noStrike">
                <a:solidFill>
                  <a:srgbClr val="000000"/>
                </a:solidFill>
                <a:latin typeface="Microsoft JhengHei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21636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珍妮介绍给我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2590920"/>
            <a:ext cx="5105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077840" y="1752480"/>
            <a:ext cx="1424160" cy="4038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510000" y="2197080"/>
            <a:ext cx="357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1981080"/>
            <a:ext cx="44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This is  Jenn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191120"/>
            <a:ext cx="64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She's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my fri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把你的朋友介绍给我：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7925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This is ___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姓名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He's my fri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She's my fri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87680" y="38498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 Black"/>
                <a:ea typeface="宋体"/>
              </a:rPr>
              <a:t>当你认识了新朋友应该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7760" y="5029200"/>
            <a:ext cx="58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Arial Black"/>
              </a:rPr>
              <a:t>Nice to meet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22160" y="196704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434340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pp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5362560" cy="3200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80880" y="3505320"/>
            <a:ext cx="2590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22160" y="196704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4280" y="419112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宋体"/>
              </a:rPr>
              <a:t>oo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2971800" y="152280"/>
            <a:ext cx="5472000" cy="3200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80880" y="3505320"/>
            <a:ext cx="3638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22160" y="196704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4267080"/>
            <a:ext cx="256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宋体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3"/>
          <a:stretch/>
        </p:blipFill>
        <p:spPr>
          <a:xfrm>
            <a:off x="1447920" y="152280"/>
            <a:ext cx="6400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22160" y="196704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403848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宋体"/>
              </a:rPr>
              <a:t>d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宋体"/>
              </a:rPr>
              <a:t>oo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3352680" y="152280"/>
            <a:ext cx="5105520" cy="3276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34290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Home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背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四个字母的大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宋体"/>
              </a:rPr>
              <a:t>总结一下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宋体"/>
              </a:rPr>
              <a:t>1—7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宋体"/>
              </a:rPr>
              <a:t>课我们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过的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宋体"/>
              </a:rPr>
              <a:t>句子，自己编一段对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03:11:07Z</dcterms:created>
  <dc:creator/>
  <dc:description/>
  <cp:keywords/>
  <dc:language>en-US</dc:language>
  <cp:lastModifiedBy>Windows 用户</cp:lastModifiedBy>
  <dcterms:modified xsi:type="dcterms:W3CDTF">2014-10-13T13:37:50Z</dcterms:modified>
  <cp:revision>22</cp:revision>
  <dc:subject/>
  <dc:title>Hello! Welcome to Review!  欢迎来到复习课！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  <property fmtid="{D5CDD505-2E9C-101B-9397-08002B2CF9AE}" pid="3" name="Version">
    <vt:r8>1</vt:r8>
  </property>
</Properties>
</file>